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F0F-54BB-47C1-B80B-508A97DA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1D9-B916-4D6B-A791-5EE98B96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A08-5C05-4E2B-B96E-00D9A91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978-F796-4DDC-98FD-52B720D8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9B9-04FB-487B-A0A6-6362587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5EE-9078-41AB-BEEF-691EB39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351-AC1A-4839-8034-86ECE7B5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B46-C770-47A7-A355-85928C2B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1D8-EFC5-4722-A341-99C406F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F11-8A69-4F33-984C-A56A584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7C8-6E69-484F-A974-CE5434D0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4E0-D5BB-4C7B-BB13-D3181FCF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84F-4B75-4ED8-87FD-72EFFE63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84200" y="1557000"/>
            <a:ext cx="6386760" cy="4332960"/>
            <a:chOff x="1384200" y="1557000"/>
            <a:chExt cx="6386760" cy="4332960"/>
          </a:xfrm>
        </p:grpSpPr>
        <p:sp>
          <p:nvSpPr>
            <p:cNvPr id="42" name=""/>
            <p:cNvSpPr/>
            <p:nvPr/>
          </p:nvSpPr>
          <p:spPr>
            <a:xfrm>
              <a:off x="1763640" y="5373720"/>
              <a:ext cx="590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1763640" y="1557000"/>
              <a:ext cx="0" cy="38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979640" y="2491920"/>
              <a:ext cx="4967280" cy="2808360"/>
              <a:chOff x="1979640" y="2491920"/>
              <a:chExt cx="4967280" cy="280836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979640" y="2491920"/>
                <a:ext cx="647640" cy="2808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627280" y="2492280"/>
                <a:ext cx="107964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706920" y="2492280"/>
                <a:ext cx="144360" cy="1368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851280" y="3860640"/>
                <a:ext cx="25192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370560" y="3860640"/>
                <a:ext cx="576360" cy="1368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2342520" y="364500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5°C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82520" y="285264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45°C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62160" y="429264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0°C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59240" y="34941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400°C, 1 h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19200" y="212580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880°C, 5 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05080" y="549108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4200" y="19162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20:34:50Z</dcterms:created>
  <dc:creator>SIDERCA S.A.I.C.</dc:creator>
  <dc:description/>
  <dc:language>en-US</dc:language>
  <cp:lastModifiedBy>SIDERCA S.A.I.C.</cp:lastModifiedBy>
  <dcterms:modified xsi:type="dcterms:W3CDTF">2006-02-24T20:51:22Z</dcterms:modified>
  <cp:revision>2</cp:revision>
  <dc:subject/>
  <dc:title>Slide 1</dc:title>
</cp:coreProperties>
</file>