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16.wmf" ContentType="image/x-wmf"/>
  <Override PartName="/ppt/media/image12.wmf" ContentType="image/x-wmf"/>
  <Override PartName="/ppt/media/image34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40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5.jpeg" ContentType="image/jpeg"/>
  <Override PartName="/ppt/media/image27.jpeg" ContentType="image/jpeg"/>
  <Override PartName="/ppt/media/image13.wmf" ContentType="image/x-wmf"/>
  <Override PartName="/ppt/media/image42.jpeg" ContentType="image/jpeg"/>
  <Override PartName="/ppt/media/image9.wmf" ContentType="image/x-wmf"/>
  <Override PartName="/ppt/media/image43.jpeg" ContentType="image/jpeg"/>
  <Override PartName="/ppt/media/image1.png" ContentType="image/png"/>
  <Override PartName="/ppt/media/image30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9.jpeg" ContentType="image/jpeg"/>
  <Override PartName="/ppt/media/image3.wmf" ContentType="image/x-wmf"/>
  <Override PartName="/ppt/media/image14.wmf" ContentType="image/x-wmf"/>
  <Override PartName="/ppt/media/image4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9AF-9814-4BA1-8D6A-FDDC0DD5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174-AFD7-4536-B02A-78A88FD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177-902F-47AC-8D9E-5AFBF863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30A-7AEA-45DE-ACD1-E26C430F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73BAF-C67B-4C6F-896E-F128BA4A3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65944-B3A9-4849-A674-76AB11BCA7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7C8C3-2258-4923-89B9-C362B48566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A148F-F004-429A-8CEE-5C8FDC6C3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F1664-9257-4951-9BE8-DEBD91803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57E24-FBA3-415F-BB2C-968ECB837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A8A28-193F-454F-97F7-309334B3F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8DB-CDF2-441F-8BBC-8F874F9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6A96F-B750-41DC-8922-002317F6B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46C6-4B98-4566-B935-B97553C01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A9071-8E86-4FA5-9BF1-664D76E811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CA3AA-BE3A-4FFC-A693-3515B94D40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05B97-2E6C-48C8-9E16-76E0B2A17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FF9-D962-40B9-AA82-E7CFF76C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824-AC7B-47CB-B1DA-ED988474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639-9883-4B00-BA66-ED7B0028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EE5-BBDB-4CDE-BAC8-218CC8F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E56-1A37-4CC1-B279-8CF140A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A0A-EE2E-4AA8-9422-5B04989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7A0-432E-4EE5-9F43-AC6F4AD7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7570-CED5-4170-8A3B-D5AEF786729F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433-17B1-4B54-9FEB-1C157EC59210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/>
          <a:stretch/>
        </p:blipFill>
        <p:spPr>
          <a:xfrm>
            <a:off x="96840" y="98280"/>
            <a:ext cx="847800" cy="4986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8"/>
          <p:cNvSpPr/>
          <p:nvPr/>
        </p:nvSpPr>
        <p:spPr>
          <a:xfrm>
            <a:off x="119880" y="6456240"/>
            <a:ext cx="69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Comic Sans MS"/>
              </a:rPr>
              <a:t>Adventures in the Physical Metallurgy of Steels, Cambridge, UK, July 23 – 25, 201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1109520" y="590400"/>
            <a:ext cx="7180560" cy="36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F7C8-675A-4188-B514-EDA63A724B86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56F-4F8F-4375-B34E-DA617AA66C04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05160" y="125280"/>
            <a:ext cx="2828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Model Validatio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117360" y="855720"/>
            <a:ext cx="4524480" cy="3035160"/>
            <a:chOff x="117360" y="855720"/>
            <a:chExt cx="4524480" cy="3035160"/>
          </a:xfrm>
        </p:grpSpPr>
        <p:sp>
          <p:nvSpPr>
            <p:cNvPr id="84" name="AutoShape 17"/>
            <p:cNvSpPr/>
            <p:nvPr/>
          </p:nvSpPr>
          <p:spPr>
            <a:xfrm>
              <a:off x="117360" y="855720"/>
              <a:ext cx="4524480" cy="3035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 flipV="1">
              <a:off x="2630520" y="909720"/>
              <a:ext cx="4273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>
              <a:off x="2858040" y="1347480"/>
              <a:ext cx="284400" cy="480960"/>
            </a:xfrm>
            <a:custGeom>
              <a:avLst/>
              <a:gdLst>
                <a:gd name="textAreaLeft" fmla="*/ 37800 w 284400"/>
                <a:gd name="textAreaRight" fmla="*/ 246600 w 284400"/>
                <a:gd name="textAreaTop" fmla="*/ 83880 h 480960"/>
                <a:gd name="textAreaBottom" fmla="*/ 34884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 flipV="1">
              <a:off x="155880" y="1515960"/>
              <a:ext cx="1849320" cy="10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 flipV="1">
              <a:off x="2270160" y="2150640"/>
              <a:ext cx="2342880" cy="13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 flipV="1">
              <a:off x="1150920" y="2030040"/>
              <a:ext cx="173592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2270160" y="2369160"/>
              <a:ext cx="2371680" cy="13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155160" y="2604960"/>
              <a:ext cx="211500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155160" y="2856600"/>
              <a:ext cx="211500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155160" y="260496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2270160" y="350172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" name="Group 28"/>
            <p:cNvGrpSpPr/>
            <p:nvPr/>
          </p:nvGrpSpPr>
          <p:grpSpPr>
            <a:xfrm>
              <a:off x="2012400" y="1074240"/>
              <a:ext cx="1026360" cy="1239480"/>
              <a:chOff x="2012400" y="1074240"/>
              <a:chExt cx="1026360" cy="1239480"/>
            </a:xfrm>
          </p:grpSpPr>
          <p:sp>
            <p:nvSpPr>
              <p:cNvPr id="96" name="Line 29"/>
              <p:cNvSpPr/>
              <p:nvPr/>
            </p:nvSpPr>
            <p:spPr>
              <a:xfrm>
                <a:off x="2023560" y="1144080"/>
                <a:ext cx="360" cy="9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Arc 30"/>
              <p:cNvSpPr/>
              <p:nvPr/>
            </p:nvSpPr>
            <p:spPr>
              <a:xfrm flipH="1" flipV="1" rot="5188800">
                <a:off x="2303640" y="1560960"/>
                <a:ext cx="442800" cy="100080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18447" y="231"/>
                    </a:moveTo>
                    <a:cubicBezTo>
                      <a:pt x="19490" y="77"/>
                      <a:pt x="20544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0899"/>
                      <a:pt x="7834" y="1812"/>
                      <a:pt x="18417" y="235"/>
                    </a:cubicBezTo>
                  </a:path>
                  <a:path stroke="0" w="43200" h="43200">
                    <a:moveTo>
                      <a:pt x="18447" y="231"/>
                    </a:moveTo>
                    <a:cubicBezTo>
                      <a:pt x="19490" y="77"/>
                      <a:pt x="20544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0899"/>
                      <a:pt x="7834" y="1812"/>
                      <a:pt x="18417" y="235"/>
                    </a:cubicBezTo>
                    <a:lnTo>
                      <a:pt x="21600" y="21600"/>
                    </a:lnTo>
                    <a:lnTo>
                      <a:pt x="18447" y="23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Line 31"/>
              <p:cNvSpPr/>
              <p:nvPr/>
            </p:nvSpPr>
            <p:spPr>
              <a:xfrm>
                <a:off x="3020040" y="1074240"/>
                <a:ext cx="36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32"/>
            <p:cNvGrpSpPr/>
            <p:nvPr/>
          </p:nvGrpSpPr>
          <p:grpSpPr>
            <a:xfrm>
              <a:off x="2450520" y="2090880"/>
              <a:ext cx="161280" cy="295200"/>
              <a:chOff x="2450520" y="2090880"/>
              <a:chExt cx="161280" cy="295200"/>
            </a:xfrm>
          </p:grpSpPr>
          <p:sp>
            <p:nvSpPr>
              <p:cNvPr id="100" name="Line 33"/>
              <p:cNvSpPr/>
              <p:nvPr/>
            </p:nvSpPr>
            <p:spPr>
              <a:xfrm>
                <a:off x="2450520" y="2127600"/>
                <a:ext cx="36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H="1">
                <a:off x="2611440" y="2127600"/>
                <a:ext cx="36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>
                <a:off x="2450520" y="2090880"/>
                <a:ext cx="161280" cy="61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>
                <a:off x="2450520" y="2324520"/>
                <a:ext cx="161280" cy="61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4" name="AutoShape 37"/>
            <p:cNvSpPr/>
            <p:nvPr/>
          </p:nvSpPr>
          <p:spPr>
            <a:xfrm rot="9173400">
              <a:off x="1747800" y="1588320"/>
              <a:ext cx="369720" cy="306000"/>
            </a:xfrm>
            <a:prstGeom prst="rightArrow">
              <a:avLst>
                <a:gd name="adj1" fmla="val 50000"/>
                <a:gd name="adj2" fmla="val 3020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8"/>
            <p:cNvSpPr/>
            <p:nvPr/>
          </p:nvSpPr>
          <p:spPr>
            <a:xfrm>
              <a:off x="2023560" y="1026720"/>
              <a:ext cx="1005120" cy="158040"/>
            </a:xfrm>
            <a:custGeom>
              <a:avLst/>
              <a:gdLst/>
              <a:ahLst/>
              <a:rect l="l" t="t" r="r" b="b"/>
              <a:pathLst>
                <a:path w="1560" h="187">
                  <a:moveTo>
                    <a:pt x="0" y="140"/>
                  </a:moveTo>
                  <a:cubicBezTo>
                    <a:pt x="150" y="90"/>
                    <a:pt x="300" y="40"/>
                    <a:pt x="405" y="20"/>
                  </a:cubicBezTo>
                  <a:cubicBezTo>
                    <a:pt x="510" y="0"/>
                    <a:pt x="543" y="3"/>
                    <a:pt x="630" y="20"/>
                  </a:cubicBezTo>
                  <a:cubicBezTo>
                    <a:pt x="717" y="37"/>
                    <a:pt x="845" y="100"/>
                    <a:pt x="930" y="125"/>
                  </a:cubicBezTo>
                  <a:cubicBezTo>
                    <a:pt x="1015" y="150"/>
                    <a:pt x="1070" y="162"/>
                    <a:pt x="1140" y="170"/>
                  </a:cubicBezTo>
                  <a:cubicBezTo>
                    <a:pt x="1210" y="178"/>
                    <a:pt x="1280" y="187"/>
                    <a:pt x="1350" y="170"/>
                  </a:cubicBezTo>
                  <a:cubicBezTo>
                    <a:pt x="1420" y="153"/>
                    <a:pt x="1525" y="82"/>
                    <a:pt x="1560" y="65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Text Box 39"/>
            <p:cNvSpPr/>
            <p:nvPr/>
          </p:nvSpPr>
          <p:spPr>
            <a:xfrm>
              <a:off x="847440" y="2200320"/>
              <a:ext cx="113796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reating side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2061360" y="2528280"/>
              <a:ext cx="122328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Advancing side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Text Box 41"/>
            <p:cNvSpPr/>
            <p:nvPr/>
          </p:nvSpPr>
          <p:spPr>
            <a:xfrm>
              <a:off x="506160" y="1172520"/>
              <a:ext cx="136548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lding direction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42"/>
            <p:cNvSpPr/>
            <p:nvPr/>
          </p:nvSpPr>
          <p:spPr>
            <a:xfrm flipV="1">
              <a:off x="3009960" y="1362960"/>
              <a:ext cx="107208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581760" y="1588320"/>
              <a:ext cx="815400" cy="262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ould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>
              <a:off x="1283760" y="1774080"/>
              <a:ext cx="92916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Text Box 45"/>
            <p:cNvSpPr/>
            <p:nvPr/>
          </p:nvSpPr>
          <p:spPr>
            <a:xfrm>
              <a:off x="3189960" y="1927080"/>
              <a:ext cx="73944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ol Pin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46"/>
            <p:cNvSpPr/>
            <p:nvPr/>
          </p:nvSpPr>
          <p:spPr>
            <a:xfrm flipH="1">
              <a:off x="2611080" y="2090880"/>
              <a:ext cx="57852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Text Box 47"/>
            <p:cNvSpPr/>
            <p:nvPr/>
          </p:nvSpPr>
          <p:spPr>
            <a:xfrm>
              <a:off x="3636000" y="942840"/>
              <a:ext cx="82512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i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48"/>
            <p:cNvSpPr/>
            <p:nvPr/>
          </p:nvSpPr>
          <p:spPr>
            <a:xfrm flipH="1">
              <a:off x="3787200" y="1249200"/>
              <a:ext cx="47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16" name="Picture 38" descr="Graph1"/>
          <p:cNvPicPr/>
          <p:nvPr/>
        </p:nvPicPr>
        <p:blipFill>
          <a:blip r:embed="rId1"/>
          <a:srcRect l="5491" t="502" r="11652" b="1627"/>
          <a:stretch/>
        </p:blipFill>
        <p:spPr>
          <a:xfrm>
            <a:off x="4624560" y="2924280"/>
            <a:ext cx="395748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Oval 41"/>
          <p:cNvSpPr/>
          <p:nvPr/>
        </p:nvSpPr>
        <p:spPr>
          <a:xfrm>
            <a:off x="2857680" y="2222640"/>
            <a:ext cx="1015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2"/>
          <p:cNvSpPr/>
          <p:nvPr/>
        </p:nvSpPr>
        <p:spPr>
          <a:xfrm>
            <a:off x="4394160" y="2768760"/>
            <a:ext cx="4483080" cy="3174840"/>
          </a:xfrm>
          <a:prstGeom prst="borderCallout1">
            <a:avLst>
              <a:gd name="adj1" fmla="val 18750"/>
              <a:gd name="adj2" fmla="val -8333"/>
              <a:gd name="adj3" fmla="val -16000"/>
              <a:gd name="adj4" fmla="val -32861"/>
            </a:avLst>
          </a:prstGeom>
          <a:noFill/>
          <a:ln w="22320">
            <a:solidFill>
              <a:srgbClr val="ff00ff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78400" y="6039000"/>
            <a:ext cx="35035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3300"/>
                </a:solidFill>
                <a:latin typeface="Comic Sans MS"/>
              </a:rPr>
              <a:t>Nanda, Roy, Lienert and DebRoy, Acta Mat, 200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rcRect l="4220" t="5377" r="31335" b="2253"/>
          <a:stretch/>
        </p:blipFill>
        <p:spPr>
          <a:xfrm>
            <a:off x="193680" y="779400"/>
            <a:ext cx="3583080" cy="4564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E4EA-8211-4238-8891-45EDC3863157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2"/>
          <a:srcRect l="7999" t="4875" r="41113" b="0"/>
          <a:stretch/>
        </p:blipFill>
        <p:spPr>
          <a:xfrm>
            <a:off x="5749920" y="739800"/>
            <a:ext cx="277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5"/>
          <p:cNvSpPr/>
          <p:nvPr/>
        </p:nvSpPr>
        <p:spPr>
          <a:xfrm>
            <a:off x="5976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AAE4-0680-44E6-9E5F-C285FA30CB01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7111" t="5377" r="38778" b="0"/>
          <a:stretch/>
        </p:blipFill>
        <p:spPr>
          <a:xfrm>
            <a:off x="230040" y="812880"/>
            <a:ext cx="2998800" cy="4659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2"/>
          <a:srcRect l="6556" t="4875" r="38336" b="0"/>
          <a:stretch/>
        </p:blipFill>
        <p:spPr>
          <a:xfrm>
            <a:off x="5762520" y="727200"/>
            <a:ext cx="3035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5"/>
          <p:cNvSpPr/>
          <p:nvPr/>
        </p:nvSpPr>
        <p:spPr>
          <a:xfrm>
            <a:off x="6120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00DE-812B-4B30-AA56-696BA53680DF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9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1"/>
          <a:srcRect l="6556" t="5377" r="36447" b="0"/>
          <a:stretch/>
        </p:blipFill>
        <p:spPr>
          <a:xfrm>
            <a:off x="206280" y="868320"/>
            <a:ext cx="309888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2"/>
          <a:srcRect l="15009" t="2957" r="25273" b="2214"/>
          <a:stretch/>
        </p:blipFill>
        <p:spPr>
          <a:xfrm>
            <a:off x="5492880" y="777960"/>
            <a:ext cx="334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F81-79CB-49E1-863D-0680225A5B48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7" name="Picture 8" descr="Graph1"/>
          <p:cNvPicPr/>
          <p:nvPr/>
        </p:nvPicPr>
        <p:blipFill>
          <a:blip r:embed="rId1"/>
          <a:srcRect l="2843" t="0" r="11958" b="0"/>
          <a:stretch/>
        </p:blipFill>
        <p:spPr>
          <a:xfrm>
            <a:off x="41400" y="677880"/>
            <a:ext cx="304308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raph1"/>
          <p:cNvPicPr/>
          <p:nvPr/>
        </p:nvPicPr>
        <p:blipFill>
          <a:blip r:embed="rId2"/>
          <a:srcRect l="1680" t="0" r="11961" b="0"/>
          <a:stretch/>
        </p:blipFill>
        <p:spPr>
          <a:xfrm>
            <a:off x="3052800" y="682560"/>
            <a:ext cx="3089160" cy="274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raph1"/>
          <p:cNvPicPr/>
          <p:nvPr/>
        </p:nvPicPr>
        <p:blipFill>
          <a:blip r:embed="rId3"/>
          <a:srcRect l="2283" t="0" r="12886" b="0"/>
          <a:stretch/>
        </p:blipFill>
        <p:spPr>
          <a:xfrm>
            <a:off x="6094440" y="682560"/>
            <a:ext cx="303516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Graph1"/>
          <p:cNvPicPr/>
          <p:nvPr/>
        </p:nvPicPr>
        <p:blipFill>
          <a:blip r:embed="rId4"/>
          <a:srcRect l="3072" t="0" r="13033" b="0"/>
          <a:stretch/>
        </p:blipFill>
        <p:spPr>
          <a:xfrm>
            <a:off x="57240" y="3603600"/>
            <a:ext cx="2998800" cy="2739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Graph1"/>
          <p:cNvPicPr/>
          <p:nvPr/>
        </p:nvPicPr>
        <p:blipFill>
          <a:blip r:embed="rId5"/>
          <a:srcRect l="2374" t="0" r="13027" b="0"/>
          <a:stretch/>
        </p:blipFill>
        <p:spPr>
          <a:xfrm>
            <a:off x="3127320" y="3616200"/>
            <a:ext cx="3025800" cy="2741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2.10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DA18-CFD1-4A8D-AFDE-A1AB43CED680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10" descr="Graph1"/>
          <p:cNvPicPr/>
          <p:nvPr/>
        </p:nvPicPr>
        <p:blipFill>
          <a:blip r:embed="rId1"/>
          <a:srcRect l="2656" t="0" r="12795" b="0"/>
          <a:stretch/>
        </p:blipFill>
        <p:spPr>
          <a:xfrm>
            <a:off x="71280" y="733320"/>
            <a:ext cx="3025800" cy="274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Graph1"/>
          <p:cNvPicPr/>
          <p:nvPr/>
        </p:nvPicPr>
        <p:blipFill>
          <a:blip r:embed="rId2"/>
          <a:srcRect l="2696" t="0" r="12745" b="0"/>
          <a:stretch/>
        </p:blipFill>
        <p:spPr>
          <a:xfrm>
            <a:off x="3124080" y="741240"/>
            <a:ext cx="30258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Graph1"/>
          <p:cNvPicPr/>
          <p:nvPr/>
        </p:nvPicPr>
        <p:blipFill>
          <a:blip r:embed="rId3"/>
          <a:srcRect l="2653" t="0" r="12842" b="0"/>
          <a:stretch/>
        </p:blipFill>
        <p:spPr>
          <a:xfrm>
            <a:off x="6116760" y="741240"/>
            <a:ext cx="3025800" cy="2746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Graph1"/>
          <p:cNvPicPr/>
          <p:nvPr/>
        </p:nvPicPr>
        <p:blipFill>
          <a:blip r:embed="rId4"/>
          <a:srcRect l="2605" t="0" r="12846" b="0"/>
          <a:stretch/>
        </p:blipFill>
        <p:spPr>
          <a:xfrm>
            <a:off x="104760" y="3646440"/>
            <a:ext cx="3025800" cy="274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Graph1"/>
          <p:cNvPicPr/>
          <p:nvPr/>
        </p:nvPicPr>
        <p:blipFill>
          <a:blip r:embed="rId5"/>
          <a:srcRect l="1632" t="0" r="13214" b="0"/>
          <a:stretch/>
        </p:blipFill>
        <p:spPr>
          <a:xfrm>
            <a:off x="3114720" y="3632040"/>
            <a:ext cx="3043080" cy="2740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1.05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7B5-0AED-469F-BECE-CF792746A835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Picture 9" descr="Graph1"/>
          <p:cNvPicPr/>
          <p:nvPr/>
        </p:nvPicPr>
        <p:blipFill>
          <a:blip r:embed="rId1"/>
          <a:srcRect l="2609" t="0" r="12187" b="0"/>
          <a:stretch/>
        </p:blipFill>
        <p:spPr>
          <a:xfrm>
            <a:off x="3065400" y="3646440"/>
            <a:ext cx="3043440" cy="27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Graph1"/>
          <p:cNvPicPr/>
          <p:nvPr/>
        </p:nvPicPr>
        <p:blipFill>
          <a:blip r:embed="rId2"/>
          <a:srcRect l="2515" t="0" r="11679" b="0"/>
          <a:stretch/>
        </p:blipFill>
        <p:spPr>
          <a:xfrm>
            <a:off x="25560" y="3629160"/>
            <a:ext cx="3071520" cy="2744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Graph1"/>
          <p:cNvPicPr/>
          <p:nvPr/>
        </p:nvPicPr>
        <p:blipFill>
          <a:blip r:embed="rId3"/>
          <a:srcRect l="1959" t="0" r="11535" b="0"/>
          <a:stretch/>
        </p:blipFill>
        <p:spPr>
          <a:xfrm>
            <a:off x="6046920" y="712800"/>
            <a:ext cx="3098520" cy="274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Graph1"/>
          <p:cNvPicPr/>
          <p:nvPr/>
        </p:nvPicPr>
        <p:blipFill>
          <a:blip r:embed="rId4"/>
          <a:srcRect l="2790" t="0" r="12005" b="0"/>
          <a:stretch/>
        </p:blipFill>
        <p:spPr>
          <a:xfrm>
            <a:off x="3067200" y="716040"/>
            <a:ext cx="304308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4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0.42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15" descr="Graph1"/>
          <p:cNvPicPr/>
          <p:nvPr/>
        </p:nvPicPr>
        <p:blipFill>
          <a:blip r:embed="rId5"/>
          <a:srcRect l="2609" t="0" r="11955" b="0"/>
          <a:stretch/>
        </p:blipFill>
        <p:spPr>
          <a:xfrm>
            <a:off x="30240" y="682560"/>
            <a:ext cx="3052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6BB2-91E6-42D8-AD4C-9D69585AE1A5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06600" y="38160"/>
            <a:ext cx="4307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1" name="Picture 8" descr="Graph1"/>
          <p:cNvPicPr/>
          <p:nvPr/>
        </p:nvPicPr>
        <p:blipFill>
          <a:blip r:embed="rId1"/>
          <a:srcRect l="2653" t="0" r="12842" b="0"/>
          <a:stretch/>
        </p:blipFill>
        <p:spPr>
          <a:xfrm>
            <a:off x="54000" y="741240"/>
            <a:ext cx="3025800" cy="2746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Graph1"/>
          <p:cNvPicPr/>
          <p:nvPr/>
        </p:nvPicPr>
        <p:blipFill>
          <a:blip r:embed="rId2"/>
          <a:srcRect l="2377" t="0" r="13727" b="0"/>
          <a:stretch/>
        </p:blipFill>
        <p:spPr>
          <a:xfrm>
            <a:off x="3100320" y="741240"/>
            <a:ext cx="2998800" cy="2740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Graph1"/>
          <p:cNvPicPr/>
          <p:nvPr/>
        </p:nvPicPr>
        <p:blipFill>
          <a:blip r:embed="rId3"/>
          <a:srcRect l="2465" t="0" r="12987" b="0"/>
          <a:stretch/>
        </p:blipFill>
        <p:spPr>
          <a:xfrm>
            <a:off x="6091200" y="731880"/>
            <a:ext cx="3025800" cy="2744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Graph1"/>
          <p:cNvPicPr/>
          <p:nvPr/>
        </p:nvPicPr>
        <p:blipFill>
          <a:blip r:embed="rId4"/>
          <a:srcRect l="3021" t="0" r="13073" b="0"/>
          <a:stretch/>
        </p:blipFill>
        <p:spPr>
          <a:xfrm>
            <a:off x="104760" y="3608280"/>
            <a:ext cx="2998800" cy="27399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4"/>
          <p:cNvSpPr/>
          <p:nvPr/>
        </p:nvSpPr>
        <p:spPr>
          <a:xfrm>
            <a:off x="6300720" y="4368960"/>
            <a:ext cx="272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 surface in three different welding speeds at five rotational speeds.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5" descr="Graph1"/>
          <p:cNvPicPr/>
          <p:nvPr/>
        </p:nvPicPr>
        <p:blipFill>
          <a:blip r:embed="rId5"/>
          <a:srcRect l="2696" t="0" r="12745" b="0"/>
          <a:stretch/>
        </p:blipFill>
        <p:spPr>
          <a:xfrm>
            <a:off x="3121200" y="3603600"/>
            <a:ext cx="3025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C5E-859C-4431-A239-B669DBFEC096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0960" y="759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5770440" y="62712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124560" y="4273560"/>
            <a:ext cx="27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900 rpm,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rcRect l="0" t="21114" r="1207" b="17990"/>
          <a:stretch/>
        </p:blipFill>
        <p:spPr>
          <a:xfrm>
            <a:off x="54000" y="625320"/>
            <a:ext cx="6105600" cy="28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2"/>
          <a:srcRect l="0" t="21374" r="1237" b="18251"/>
          <a:stretch/>
        </p:blipFill>
        <p:spPr>
          <a:xfrm>
            <a:off x="2895480" y="3554280"/>
            <a:ext cx="6161040" cy="2870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5"/>
          <p:cNvSpPr/>
          <p:nvPr/>
        </p:nvSpPr>
        <p:spPr>
          <a:xfrm>
            <a:off x="5800680" y="160668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longitudinal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2CB9-5D15-4B40-9B26-DF0407AEDD9C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5"/>
          <p:cNvSpPr/>
          <p:nvPr/>
        </p:nvSpPr>
        <p:spPr>
          <a:xfrm>
            <a:off x="5706720" y="62712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180360" y="4273560"/>
            <a:ext cx="2624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900 rpm,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2.1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1713" t="21251" r="1143" b="18875"/>
          <a:stretch/>
        </p:blipFill>
        <p:spPr>
          <a:xfrm>
            <a:off x="2806560" y="3543480"/>
            <a:ext cx="6115320" cy="2869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2"/>
          <a:srcRect l="0" t="21124" r="1237" b="18502"/>
          <a:stretch/>
        </p:blipFill>
        <p:spPr>
          <a:xfrm>
            <a:off x="-63360" y="625320"/>
            <a:ext cx="6161040" cy="287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5"/>
          <p:cNvSpPr/>
          <p:nvPr/>
        </p:nvSpPr>
        <p:spPr>
          <a:xfrm>
            <a:off x="5724360" y="160668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longitudinal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11320" y="76320"/>
            <a:ext cx="7621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830-F874-4D75-9F1E-58DDFD7CFDC1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5084640" y="219852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transverse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in front of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111320" y="76320"/>
            <a:ext cx="7621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17"/>
          <p:cNvGrpSpPr/>
          <p:nvPr/>
        </p:nvGrpSpPr>
        <p:grpSpPr>
          <a:xfrm>
            <a:off x="147600" y="647640"/>
            <a:ext cx="8348760" cy="3009960"/>
            <a:chOff x="147600" y="647640"/>
            <a:chExt cx="8348760" cy="3009960"/>
          </a:xfrm>
        </p:grpSpPr>
        <p:sp>
          <p:nvSpPr>
            <p:cNvPr id="138" name="Text Box 55"/>
            <p:cNvSpPr/>
            <p:nvPr/>
          </p:nvSpPr>
          <p:spPr>
            <a:xfrm>
              <a:off x="5089680" y="892080"/>
              <a:ext cx="34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0.42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9" name="Picture 9" descr=""/>
            <p:cNvPicPr/>
            <p:nvPr/>
          </p:nvPicPr>
          <p:blipFill>
            <a:blip r:embed="rId1"/>
            <a:srcRect l="3239" t="10724" r="4382" b="25638"/>
            <a:stretch/>
          </p:blipFill>
          <p:spPr>
            <a:xfrm>
              <a:off x="147600" y="912960"/>
              <a:ext cx="5156280" cy="27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5"/>
            <p:cNvSpPr/>
            <p:nvPr/>
          </p:nvSpPr>
          <p:spPr>
            <a:xfrm>
              <a:off x="600120" y="655560"/>
              <a:ext cx="178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Advanc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55"/>
            <p:cNvSpPr/>
            <p:nvPr/>
          </p:nvSpPr>
          <p:spPr>
            <a:xfrm>
              <a:off x="3611520" y="647640"/>
              <a:ext cx="178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treat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909720" y="3476520"/>
            <a:ext cx="8196120" cy="2994120"/>
            <a:chOff x="909720" y="3476520"/>
            <a:chExt cx="8196120" cy="2994120"/>
          </a:xfrm>
        </p:grpSpPr>
        <p:pic>
          <p:nvPicPr>
            <p:cNvPr id="143" name="Picture 13" descr=""/>
            <p:cNvPicPr/>
            <p:nvPr/>
          </p:nvPicPr>
          <p:blipFill>
            <a:blip r:embed="rId2"/>
            <a:srcRect l="3621" t="10108" r="4382" b="25638"/>
            <a:stretch/>
          </p:blipFill>
          <p:spPr>
            <a:xfrm>
              <a:off x="3948120" y="3727440"/>
              <a:ext cx="508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55"/>
            <p:cNvSpPr/>
            <p:nvPr/>
          </p:nvSpPr>
          <p:spPr>
            <a:xfrm>
              <a:off x="909720" y="5665680"/>
              <a:ext cx="34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2.1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Text Box 55"/>
            <p:cNvSpPr/>
            <p:nvPr/>
          </p:nvSpPr>
          <p:spPr>
            <a:xfrm>
              <a:off x="4383000" y="3476520"/>
              <a:ext cx="17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Advanc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55"/>
            <p:cNvSpPr/>
            <p:nvPr/>
          </p:nvSpPr>
          <p:spPr>
            <a:xfrm>
              <a:off x="7404120" y="3477960"/>
              <a:ext cx="170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treat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64"/>
          <p:cNvGrpSpPr/>
          <p:nvPr/>
        </p:nvGrpSpPr>
        <p:grpSpPr>
          <a:xfrm>
            <a:off x="55080" y="716040"/>
            <a:ext cx="5207400" cy="5312520"/>
            <a:chOff x="55080" y="716040"/>
            <a:chExt cx="5207400" cy="5312520"/>
          </a:xfrm>
        </p:grpSpPr>
        <p:pic>
          <p:nvPicPr>
            <p:cNvPr id="148" name="Picture 59" descr=""/>
            <p:cNvPicPr/>
            <p:nvPr/>
          </p:nvPicPr>
          <p:blipFill>
            <a:blip r:embed="rId1"/>
            <a:srcRect l="1854" t="3276" r="5672" b="1146"/>
            <a:stretch/>
          </p:blipFill>
          <p:spPr>
            <a:xfrm>
              <a:off x="77760" y="716040"/>
              <a:ext cx="518472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5"/>
            <p:cNvSpPr/>
            <p:nvPr/>
          </p:nvSpPr>
          <p:spPr>
            <a:xfrm>
              <a:off x="55080" y="5691240"/>
              <a:ext cx="38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2.10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AACB-8342-48A9-8C74-07D3D33C4CC7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3384360" y="518148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65"/>
          <p:cNvGrpSpPr/>
          <p:nvPr/>
        </p:nvGrpSpPr>
        <p:grpSpPr>
          <a:xfrm>
            <a:off x="5498640" y="739800"/>
            <a:ext cx="3841560" cy="5265000"/>
            <a:chOff x="5498640" y="739800"/>
            <a:chExt cx="3841560" cy="5265000"/>
          </a:xfrm>
        </p:grpSpPr>
        <p:pic>
          <p:nvPicPr>
            <p:cNvPr id="154" name="Picture 61" descr=""/>
            <p:cNvPicPr/>
            <p:nvPr/>
          </p:nvPicPr>
          <p:blipFill>
            <a:blip r:embed="rId2"/>
            <a:srcRect l="15009" t="2957" r="25273" b="2214"/>
            <a:stretch/>
          </p:blipFill>
          <p:spPr>
            <a:xfrm>
              <a:off x="5645160" y="739800"/>
              <a:ext cx="33480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5"/>
            <p:cNvSpPr/>
            <p:nvPr/>
          </p:nvSpPr>
          <p:spPr>
            <a:xfrm>
              <a:off x="5498640" y="5667480"/>
              <a:ext cx="38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0.42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rcRect l="1889" t="5377" r="15447" b="1751"/>
          <a:stretch/>
        </p:blipFill>
        <p:spPr>
          <a:xfrm>
            <a:off x="54000" y="969840"/>
            <a:ext cx="4305240" cy="4299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5"/>
          <p:cNvSpPr/>
          <p:nvPr/>
        </p:nvSpPr>
        <p:spPr>
          <a:xfrm>
            <a:off x="5508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51E-0891-42FB-8D1C-9082964F0719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384360" y="528336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550188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12" descr=""/>
          <p:cNvPicPr/>
          <p:nvPr/>
        </p:nvPicPr>
        <p:blipFill>
          <a:blip r:embed="rId2"/>
          <a:srcRect l="2445" t="4875" r="11777" b="1751"/>
          <a:stretch/>
        </p:blipFill>
        <p:spPr>
          <a:xfrm>
            <a:off x="4532400" y="841320"/>
            <a:ext cx="453384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5"/>
          <p:cNvSpPr/>
          <p:nvPr/>
        </p:nvSpPr>
        <p:spPr>
          <a:xfrm>
            <a:off x="5508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779E-23C7-4DF0-9FCC-E4C96D0AE0A9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3384360" y="518148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50188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rcRect l="1889" t="5377" r="8887" b="1751"/>
          <a:stretch/>
        </p:blipFill>
        <p:spPr>
          <a:xfrm>
            <a:off x="92160" y="932040"/>
            <a:ext cx="4441680" cy="4108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2"/>
          <a:srcRect l="1443" t="4752" r="7557" b="1250"/>
          <a:stretch/>
        </p:blipFill>
        <p:spPr>
          <a:xfrm>
            <a:off x="4584600" y="828720"/>
            <a:ext cx="44802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rcRect l="3779" t="4875" r="28558" b="1751"/>
          <a:stretch/>
        </p:blipFill>
        <p:spPr>
          <a:xfrm>
            <a:off x="5237280" y="817560"/>
            <a:ext cx="3720960" cy="456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rcRect l="3779" t="3749" r="26668" b="1751"/>
          <a:stretch/>
        </p:blipFill>
        <p:spPr>
          <a:xfrm>
            <a:off x="95400" y="820800"/>
            <a:ext cx="3784320" cy="457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0D9E-DB88-4E98-A252-3FD23CAF3879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550332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1" descr=""/>
          <p:cNvPicPr/>
          <p:nvPr/>
        </p:nvPicPr>
        <p:blipFill>
          <a:blip r:embed="rId1"/>
          <a:srcRect l="3779" t="3749" r="23891" b="1127"/>
          <a:stretch/>
        </p:blipFill>
        <p:spPr>
          <a:xfrm>
            <a:off x="4863960" y="752400"/>
            <a:ext cx="3913200" cy="4573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2"/>
          <a:srcRect l="4220" t="4373" r="23891" b="1127"/>
          <a:stretch/>
        </p:blipFill>
        <p:spPr>
          <a:xfrm>
            <a:off x="54000" y="855720"/>
            <a:ext cx="39132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9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450-F1EE-443C-B9B6-57ECB045473D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550332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9:20:50Z</dcterms:created>
  <dc:creator>Amit Arora</dc:creator>
  <dc:description/>
  <dc:language>en-US</dc:language>
  <cp:lastModifiedBy> </cp:lastModifiedBy>
  <dcterms:modified xsi:type="dcterms:W3CDTF">2013-07-04T10:19:23Z</dcterms:modified>
  <cp:revision>382</cp:revision>
  <dc:subject/>
  <dc:title>Slide 1</dc:title>
</cp:coreProperties>
</file>