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FAA4F-A167-4C39-99E6-0B9988D9E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2DE62-D88A-4DF7-A612-91263108B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3F6AB-D143-458A-B465-97A923C43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3453A-F274-4BBC-AFBA-12CF7414A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45AAAD-EF99-47EE-B90A-970049407D6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1A9840-D986-4480-AE4C-A85118A020C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F73616-1CE1-486F-B322-1F0BAAD1EF6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BFD3DC-5E3A-43B2-B817-0750E3B864D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0D78B4-C768-4F66-9E1E-8ACB603FA9B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D397DB-028C-4B85-BC1D-A70DED85495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3AE668-8836-40CC-AF96-79E6C31A014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7CFCE-98F6-4BBA-9DA4-E1DEDF992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1AE8CE-959C-4851-AC6E-304F9C83AD4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8D48E7-C51F-4F9F-99F8-86964DE9BC6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7F3463-0DD3-4958-A11F-385D2EF8BA2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86B1F3-1180-4854-ADA8-2288FCB870A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505D5E-1628-4334-BCBA-D11B91A0E46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C168E-52E9-4D06-A0C9-1BAA36313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377D8-183F-41D6-8BB4-D8A095818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BC655-D1E3-4C2E-87E8-B3FDF0233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BB10A-6192-4831-8DE6-B7F84FEBF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28726-DAE9-477E-BC91-E8720806D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CF86B-B004-4470-BEF1-8F444E8DD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6DF9A-612E-45FF-B012-AC94F669B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56323-7078-4021-9A63-54E2A4C123D2}" type="datetime"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33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C3EA4-C9C3-458A-B7BD-B6078759917D}" type="slidenum">
              <a:rPr b="0" lang="en-US" sz="1400" spc="-1" strike="noStrike">
                <a:solidFill>
                  <a:srgbClr val="cc33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17" descr=""/>
          <p:cNvPicPr/>
          <p:nvPr/>
        </p:nvPicPr>
        <p:blipFill>
          <a:blip r:embed="rId2"/>
          <a:stretch/>
        </p:blipFill>
        <p:spPr>
          <a:xfrm>
            <a:off x="96840" y="98280"/>
            <a:ext cx="847800" cy="498600"/>
          </a:xfrm>
          <a:prstGeom prst="rect">
            <a:avLst/>
          </a:prstGeom>
          <a:ln w="0">
            <a:noFill/>
          </a:ln>
        </p:spPr>
      </p:pic>
      <p:sp>
        <p:nvSpPr>
          <p:cNvPr id="40" name="Text Box 8"/>
          <p:cNvSpPr/>
          <p:nvPr/>
        </p:nvSpPr>
        <p:spPr>
          <a:xfrm>
            <a:off x="119880" y="6456240"/>
            <a:ext cx="695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cc"/>
                </a:solidFill>
                <a:latin typeface="Comic Sans MS"/>
              </a:rPr>
              <a:t>Adventures in the Physical Metallurgy of Steels, Cambridge, UK, July 23 – 25, 2013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Rectangle 9"/>
          <p:cNvSpPr/>
          <p:nvPr/>
        </p:nvSpPr>
        <p:spPr>
          <a:xfrm>
            <a:off x="1109520" y="590400"/>
            <a:ext cx="7180560" cy="3672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100000">
                <a:srgbClr val="ffff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Num" idx="4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33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8A115-4B86-424D-95A7-4FCBAB51F8F1}" type="slidenum">
              <a:rPr b="0" lang="en-US" sz="1400" spc="-1" strike="noStrike">
                <a:solidFill>
                  <a:srgbClr val="cc33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18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91ED6-4172-4D57-BFF6-FBD92BACD872}" type="slidenum">
              <a:rPr b="0" lang="en-US" sz="1400" spc="-1" strike="noStrike">
                <a:solidFill>
                  <a:srgbClr val="cc3300"/>
                </a:solidFill>
                <a:latin typeface="Comic Sans MS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898280" y="88920"/>
            <a:ext cx="5907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Comic Sans MS"/>
              </a:rPr>
              <a:t>Peak Temperature and Cooling Rate</a:t>
            </a:r>
            <a:endParaRPr b="0" lang="en-US" sz="26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rcRect l="2094" t="0" r="15308" b="0"/>
          <a:stretch/>
        </p:blipFill>
        <p:spPr>
          <a:xfrm>
            <a:off x="92160" y="766800"/>
            <a:ext cx="3940200" cy="36576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rcRect l="5351" t="0" r="15308" b="0"/>
          <a:stretch/>
        </p:blipFill>
        <p:spPr>
          <a:xfrm>
            <a:off x="4664160" y="792000"/>
            <a:ext cx="3784680" cy="3656160"/>
          </a:xfrm>
          <a:prstGeom prst="rect">
            <a:avLst/>
          </a:prstGeom>
          <a:ln w="0">
            <a:noFill/>
          </a:ln>
        </p:spPr>
      </p:pic>
      <p:sp>
        <p:nvSpPr>
          <p:cNvPr id="85" name="Text Box 55"/>
          <p:cNvSpPr/>
          <p:nvPr/>
        </p:nvSpPr>
        <p:spPr>
          <a:xfrm>
            <a:off x="1566720" y="4896000"/>
            <a:ext cx="622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FSW of 6.35 mm thick 1018 Steel; Cooling rate is computed at the top surface just outside the pin surfac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8T19:20:50Z</dcterms:created>
  <dc:creator>Amit Arora</dc:creator>
  <dc:description/>
  <dc:language>en-US</dc:language>
  <cp:lastModifiedBy>Amitava De</cp:lastModifiedBy>
  <dcterms:modified xsi:type="dcterms:W3CDTF">2013-07-05T11:47:03Z</dcterms:modified>
  <cp:revision>384</cp:revision>
  <dc:subject/>
  <dc:title>Slide 1</dc:title>
</cp:coreProperties>
</file>